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.png" ContentType="image/png"/>
  <Override PartName="/ppt/media/image4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44.jpeg" ContentType="image/jpeg"/>
  <Override PartName="/ppt/media/image38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74E-3CC7-4627-A0F4-C4C6C9D2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7F7-A254-47A2-B1B4-7D4DEA89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D92-62CC-461C-990E-CAC7E568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2CC-1CD5-40E2-9448-B5EDAC51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715-7C99-43EA-9CB1-CFA80AF2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482-89C3-4E7F-970C-8BB082E2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6F2-39DE-4E3C-9805-EFF3FCAF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140-4750-4132-85DC-0C8AECC4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37B-3E11-4FDA-B3E9-C01B63C7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60B-7062-406E-BF7C-C9166C0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25C-27AE-47CB-8CAE-EFC870D2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3C2-1BBF-4729-9F24-21754EE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9D46-8462-45C1-85C9-976B9A71A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СТАКЛАСТО ТЕЛ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br>
              <a:rPr sz="2400"/>
            </a:b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ТОМИЈА,  </a:t>
            </a:r>
            <a:br>
              <a:rPr sz="1600"/>
            </a:b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СТОЛОГИЈА, ФИЗИОЛОГИЈА И ПАТОЛОГИЈ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1600"/>
            </a:b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ФУНКЦИОНАЛНА ДИЈАГНОСТИК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br>
              <a:rPr sz="1600"/>
            </a:b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САВРЕМЕНИ ТЕРАПИЈСКИ МОДУ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ц. др Татј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Шаренац Вул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nukleus y suture.png"/>
          <p:cNvPicPr/>
          <p:nvPr/>
        </p:nvPicPr>
        <p:blipFill>
          <a:blip r:embed="rId1"/>
          <a:stretch/>
        </p:blipFill>
        <p:spPr>
          <a:xfrm>
            <a:off x="2438280" y="990720"/>
            <a:ext cx="499608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лог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псорпција УВ зр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фра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омод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ефракциј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ламање светлости-пролазак светлости кроз средине различитог индекса прелам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оптрика ока-конвексне и конкавне површине, оптички ређе или гуш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Усправан, умањен и обрнут 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+43 диотрије-рожњача, +20диоптрија-соч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obor refrakcija.jpg"/>
          <p:cNvPicPr/>
          <p:nvPr/>
        </p:nvPicPr>
        <p:blipFill>
          <a:blip r:embed="rId1"/>
          <a:stretch/>
        </p:blipFill>
        <p:spPr>
          <a:xfrm>
            <a:off x="6477120" y="5526000"/>
            <a:ext cx="250164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птичка својств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зличит индекс преламања у централним и периферним де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роматска абер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ферна абер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Ширина зенице-оптимално 2-2,5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hromatska aberacija.png"/>
          <p:cNvPicPr/>
          <p:nvPr/>
        </p:nvPicPr>
        <p:blipFill>
          <a:blip r:embed="rId1"/>
          <a:stretch/>
        </p:blipFill>
        <p:spPr>
          <a:xfrm>
            <a:off x="914400" y="4572000"/>
            <a:ext cx="2752560" cy="165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sferna aberacija.jpg"/>
          <p:cNvPicPr/>
          <p:nvPr/>
        </p:nvPicPr>
        <p:blipFill>
          <a:blip r:embed="rId2"/>
          <a:stretch/>
        </p:blipFill>
        <p:spPr>
          <a:xfrm>
            <a:off x="4952880" y="4648320"/>
            <a:ext cx="303048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комода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пособност ока да предмет јасно види од најближе до најдаље тачке јасног ви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комодација: активна-цилијарни мишић и пасивна-сочив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Цилијарни мишић- меридионална лонгитудинална влакна- Брикеов мишић; циркуларна радијална влака- Милеров миши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70 лигамена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+14 диотр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akomodacija"/>
          <p:cNvPicPr/>
          <p:nvPr/>
        </p:nvPicPr>
        <p:blipFill>
          <a:blip r:embed="rId1"/>
          <a:stretch/>
        </p:blipFill>
        <p:spPr>
          <a:xfrm>
            <a:off x="4354560" y="4734000"/>
            <a:ext cx="478944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илијарни мишић је контролисан од стране парасимпатикуса –Вестфал Едингерово једр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рећи кранијални нер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илијарни ганглион иза очне јабучиц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илијарни нерв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илијарни мишић, сфинктер пупи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КОМОДАЦИЈА И МИОЗ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тимулус за акомодацију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јасна слика посматраног предме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Хроматска абер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весност о близини предме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з Бродманове зоне стимулус долази преко претекталне регије до ВЕ једр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еханизам акомод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мпулс из ВЕ једра, цилијарни миш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уштање зон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спупчи се соч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ћање преломне моћи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акција блиског одговора-конверген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еханизам акомод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3" descr="akomodacija.jpg"/>
          <p:cNvPicPr/>
          <p:nvPr/>
        </p:nvPicPr>
        <p:blipFill>
          <a:blip r:embed="rId1"/>
          <a:stretch/>
        </p:blipFill>
        <p:spPr>
          <a:xfrm>
            <a:off x="2057400" y="1600200"/>
            <a:ext cx="3867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akomodacija put.JPG"/>
          <p:cNvPicPr/>
          <p:nvPr/>
        </p:nvPicPr>
        <p:blipFill>
          <a:blip r:embed="rId1"/>
          <a:stretch/>
        </p:blipFill>
        <p:spPr>
          <a:xfrm>
            <a:off x="533520" y="53352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Биохемијски састав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да 6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еини 3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%: Аминокиселине, глукоза, липиди, неоргански јони, инозитол, таурин, глутатион... (1/дифузија, 2/активни транспорт, 3/синтеза у сочив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је аваскуларно па већину метаболита добија из очне вод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сновне карактерист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задњој очној комори, иза дужице →раздваја предњи од задњег сегмента о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иконвексног обл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Fossa patellaris s.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hyaloid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вина сочива (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axis lentis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паја предњи и задњи пол сочив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: 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7-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95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m↔ 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ња страна сочива: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=10↔5,33 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а страна сочива: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↔5,33 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ватор сочива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9-1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m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минокисели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и транспорт 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ерум-очна водица-сочив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насупрот концен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цијском градијен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&gt;очна водица&gt;сер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синтезу структурних проте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минокиселина у сочиву, ↑натријум-сенилна катара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гљени хидр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УКОЗА: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очиво: очна водица 1: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аболизам: аеробни и анаероб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ромене у биохемијском сасатвау сочива код катара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аракта: ↓АК, ↑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КОРБИНСКА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.оксидо-редукциони проце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УТАТИОН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лфхидрилни протеин који има главну улогу у детоксикацији сочива од слободних радикала (редуковани и оксидовани обл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њак глутатиона: ствара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-S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за и агломерација проте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са и величина сочива се повећавају целог живота (највише у прве 2 децени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ва се количина нерастворљивих албуминоида у нуклеу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 активности гликолитичких ензима→↑конц.глукозе→сорбитолскипут→накупљање сорбитола→ вода → бубрењ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 антиоксидативних механиз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на апсорциј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V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зра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омене на сочиву код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астичности капс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↑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бљине нукле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дијуса закривљености предње површин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даљине између сочива и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атаракт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ортикална скра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ње количине воде у сочиву→вакуоле у сочиву→замућење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штећење капсуле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UV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ма→повећана пропусност за воду и глукозу (↑сорбито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ње конц.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a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и/или глуко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86400" y="1522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тори средине, изложеност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V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ма, системске болести, плућна инсуфицијенција,  дијабет, хипертензија, хиперхолестеролемија, леков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3" descr="coricalis.jpg"/>
          <p:cNvPicPr/>
          <p:nvPr/>
        </p:nvPicPr>
        <p:blipFill>
          <a:blip r:embed="rId1"/>
          <a:stretch/>
        </p:blipFill>
        <p:spPr>
          <a:xfrm>
            <a:off x="5257800" y="29718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Нуклеарна скр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nuclearis.jpg"/>
          <p:cNvPicPr/>
          <p:nvPr/>
        </p:nvPicPr>
        <p:blipFill>
          <a:blip r:embed="rId1"/>
          <a:stretch/>
        </p:blipFill>
        <p:spPr>
          <a:xfrm>
            <a:off x="3886200" y="1905120"/>
            <a:ext cx="5024520" cy="334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57200" y="1905120"/>
            <a:ext cx="2819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гломерација протеина услед стварањ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-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ћкаста боја нуклеуса: фотокосидација тирозина и триптоф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23880"/>
            <a:ext cx="80773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линички симпто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тноћа (посебно у фотопским услови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јени халои око извора светлости праћени дуплим сликама (диплопи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мена рефракције у миопну (код нуклеарне катаракт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топс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боља видна оштрина при слабијем светл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хроматопсија (немогућност апсорције таласа краће таласне дужи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линички зн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д видне оштр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тноће у црвеном рефлексу (тамне зоне у сочиву при просветљавању зеничног преде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бизам и органска амблио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red reflex.jpg"/>
          <p:cNvPicPr/>
          <p:nvPr/>
        </p:nvPicPr>
        <p:blipFill>
          <a:blip r:embed="rId1"/>
          <a:stretch/>
        </p:blipFill>
        <p:spPr>
          <a:xfrm>
            <a:off x="3124080" y="46483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ункционални прегле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итивање видне оштр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јутеризовано видно поље-пад осетљивост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рни вид (дефицит у плаво-жутом делу спектра посебно код нуклеарних катарак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асна сензитивност (смањењ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воцирани видни потенциј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без проме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уп танких укрштених влакана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fibrae zonulare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оје спајају сочиво са цилијарним телом (7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оплазматски продужеци светлих  ћелија цилијарног подручја ре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а, средња и предња влакна: припој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-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м испред  и 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м иза еква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онуларни простори “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patia zonularia”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anover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ов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ана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трозонуларни простор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etit-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ана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волутивни стадију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четна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(Cataracta incipie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бубрел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(Cataracta intumesce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рел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(Cataracta matur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зрела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(Cataracta hypermatur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Cataracta incipi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етна замућења у сочиву видљива у црвеном рефлексу приликом просветљавања зеничног предела и прегледа биомикроскоп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 видне оштрине (ако су замућења у нуклеусу или задњем кортекс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3"/>
          <p:cNvSpPr/>
          <p:nvPr/>
        </p:nvSpPr>
        <p:spPr>
          <a:xfrm>
            <a:off x="3200400" y="4876920"/>
            <a:ext cx="2971800" cy="198108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Cataracta intumesc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у целини замућ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је већег волумена јер је хиперосмола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тј. садржи већу количину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тисак на дужицу→смањење угла предње  очне коморе→ризик од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омеханичког глаук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ounded Rectangle 3"/>
          <p:cNvSpPr/>
          <p:nvPr/>
        </p:nvSpPr>
        <p:spPr>
          <a:xfrm>
            <a:off x="6095880" y="4876920"/>
            <a:ext cx="1828800" cy="171432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Cataracta m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у целини замуће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дна оштрина сведена на осећај свет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ukokoria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о зенични преде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је нормалног волу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на влакна дегенерисана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уле фрагилне и осетљиве на мининмалну трау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ounded Rectangle 3"/>
          <p:cNvSpPr/>
          <p:nvPr/>
        </p:nvSpPr>
        <p:spPr>
          <a:xfrm>
            <a:off x="4191120" y="4952880"/>
            <a:ext cx="2666880" cy="1714680"/>
          </a:xfrm>
          <a:prstGeom prst="roundRect">
            <a:avLst>
              <a:gd name="adj" fmla="val 10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Calibri"/>
              </a:rPr>
              <a:t>Cataracta hyperm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на капсула пропушта продукте дегенерације сочива који се у виду беле суспензије накупљају у предњој очној комор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о је смањеног волумена па је предња очна комора дубљ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мпликације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уксација или сублуксација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Факолитички глау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Факоантигени увеити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morgagni.jpg"/>
          <p:cNvPicPr/>
          <p:nvPr/>
        </p:nvPicPr>
        <p:blipFill>
          <a:blip r:embed="rId1"/>
          <a:stretch/>
        </p:blipFill>
        <p:spPr>
          <a:xfrm>
            <a:off x="617220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ypermatura.jpg"/>
          <p:cNvPicPr/>
          <p:nvPr/>
        </p:nvPicPr>
        <p:blipFill>
          <a:blip r:embed="rId2"/>
          <a:stretch/>
        </p:blipFill>
        <p:spPr>
          <a:xfrm>
            <a:off x="6705720" y="304920"/>
            <a:ext cx="16938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тиолошке форме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ни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сени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умат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мпликов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тол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куда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генитал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енил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тарактогени фактори: метаболичка акитвност у сочив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катарактогени фактори-УВ зрачење, пушење, оксидативни стрес, ДМ, ↑хол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омене у сочиву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дратација сочива-вакуол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укотине у кортексу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мекшање у кортексу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огтова сферична замућења у капсу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Нуклеар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Content Placeholder 2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467560" cy="528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nuclearis.jpg"/>
          <p:cNvPicPr/>
          <p:nvPr/>
        </p:nvPicPr>
        <p:blipFill>
          <a:blip r:embed="rId2"/>
          <a:stretch/>
        </p:blipFill>
        <p:spPr>
          <a:xfrm>
            <a:off x="6172200" y="4724280"/>
            <a:ext cx="248616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тикал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зултат хиперхидратациј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неифрм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упулиформ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огт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coricalis.jpg"/>
          <p:cNvPicPr/>
          <p:nvPr/>
        </p:nvPicPr>
        <p:blipFill>
          <a:blip r:embed="rId1"/>
          <a:stretch/>
        </p:blipFill>
        <p:spPr>
          <a:xfrm>
            <a:off x="4495680" y="4267080"/>
            <a:ext cx="2376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рауматск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лађе осо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тузиона повр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уптура капсул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рано тело у сочи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јство физичког аг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traumatica.jpg"/>
          <p:cNvPicPr/>
          <p:nvPr/>
        </p:nvPicPr>
        <p:blipFill>
          <a:blip r:embed="rId1"/>
          <a:stretch/>
        </p:blipFill>
        <p:spPr>
          <a:xfrm>
            <a:off x="5562720" y="2286000"/>
            <a:ext cx="241920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odnosi.jpg"/>
          <p:cNvPicPr/>
          <p:nvPr/>
        </p:nvPicPr>
        <p:blipFill>
          <a:blip r:embed="rId1"/>
          <a:stretch/>
        </p:blipFill>
        <p:spPr>
          <a:xfrm>
            <a:off x="380880" y="304920"/>
            <a:ext cx="6175440" cy="34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F:\odnosi 1.png"/>
          <p:cNvPicPr/>
          <p:nvPr/>
        </p:nvPicPr>
        <p:blipFill>
          <a:blip r:embed="rId2"/>
          <a:stretch/>
        </p:blipFill>
        <p:spPr>
          <a:xfrm>
            <a:off x="2819520" y="3809880"/>
            <a:ext cx="59436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нтузио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 видљиве руптуре капс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тице цвета на задњем полу сочи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бепителна тачкаста замућења екваторијално аксијално локализов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ossius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в прстен: депо пигмента на предњој капсули око пупиларног ру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contusio.jpg"/>
          <p:cNvPicPr/>
          <p:nvPr/>
        </p:nvPicPr>
        <p:blipFill>
          <a:blip r:embed="rId1"/>
          <a:stretch/>
        </p:blipFill>
        <p:spPr>
          <a:xfrm>
            <a:off x="2743200" y="4952880"/>
            <a:ext cx="358128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ерфорација капсуле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дор очне водице →бубрење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ционарно: ограничено на предео руптуре која је затворена налегњем дуж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ће руптуре: продор сочивних маса у предњу комору у виду печур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perforatio.jpg"/>
          <p:cNvPicPr/>
          <p:nvPr/>
        </p:nvPicPr>
        <p:blipFill>
          <a:blip r:embed="rId1"/>
          <a:stretch/>
        </p:blipFill>
        <p:spPr>
          <a:xfrm>
            <a:off x="1295280" y="4267080"/>
            <a:ext cx="3075120" cy="237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perforatio 1.jpg"/>
          <p:cNvPicPr/>
          <p:nvPr/>
        </p:nvPicPr>
        <p:blipFill>
          <a:blip r:embed="rId2"/>
          <a:stretch/>
        </p:blipFill>
        <p:spPr>
          <a:xfrm>
            <a:off x="5715000" y="4648320"/>
            <a:ext cx="2276640" cy="20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суство страног тела у сочи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зија капсуле и сочивних влакана, продор водице, импрегнација оксидима мета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Сидероз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убкапсуларни депои пигмента, мидријаза, хетерохромија дужице, ликвефракција С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V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pseudo retinitis pigmentosa→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штећен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E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алкоз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Жућкаста боја сочива “сунцокрет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Kayser Fleischer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в прстен на рожњ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4" descr="strano telo 1.png"/>
          <p:cNvPicPr/>
          <p:nvPr/>
        </p:nvPicPr>
        <p:blipFill>
          <a:blip r:embed="rId1"/>
          <a:stretch/>
        </p:blipFill>
        <p:spPr>
          <a:xfrm>
            <a:off x="4191120" y="3276720"/>
            <a:ext cx="4529160" cy="3240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strano telo.jpg"/>
          <p:cNvPicPr/>
          <p:nvPr/>
        </p:nvPicPr>
        <p:blipFill>
          <a:blip r:embed="rId2"/>
          <a:stretch/>
        </p:blipFill>
        <p:spPr>
          <a:xfrm>
            <a:off x="228600" y="304920"/>
            <a:ext cx="39560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изички аген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TARACTA ELECTRICA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ELECTROCU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латерално на страни пролаза стр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он 2-4 месеца од акцид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ња а затим задња субкапсулар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TARACTA E FULMIN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удар гром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TARACTA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X IRRADIAT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нтгенско зрачење, изотопи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штећење епителних ћелиј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зрац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а субкапсуларна катара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соке температуре,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C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зр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вачи стакла, задња субкапсулар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мпликоване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ератити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веити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новљене епизоде акутног глаук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сеудоексфолијативни глауком-сублуксација соч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уксов синд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уготрајна аблација ре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атолошке катаракте (системске болест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докр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бетич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зана за тетан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д Стајнертове миопат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ндерматотична- атопична дерматоза, Вернеров синдром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атрогене-кортизон, митотици, хлорпромазин, сулфонами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екундар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мућења задње капсуле сочива после операције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 сочива или услед постоперативне инфла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лшнигове б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емерингов прст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dobro operisano.jpg"/>
          <p:cNvPicPr/>
          <p:nvPr/>
        </p:nvPicPr>
        <p:blipFill>
          <a:blip r:embed="rId1"/>
          <a:stretch/>
        </p:blipFill>
        <p:spPr>
          <a:xfrm>
            <a:off x="5638680" y="4191120"/>
            <a:ext cx="3349800" cy="2519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sekunadria.jpg"/>
          <p:cNvPicPr/>
          <p:nvPr/>
        </p:nvPicPr>
        <p:blipFill>
          <a:blip r:embed="rId2"/>
          <a:stretch/>
        </p:blipFill>
        <p:spPr>
          <a:xfrm>
            <a:off x="7315200" y="152280"/>
            <a:ext cx="167652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нгенитална катара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јчешће билатерал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зрок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енетске мутације, А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етаболички поремећаји-галактозем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траутерина инфекција- рубела, токсоплаз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золова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дружене са системским поремећај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став сочи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ПСУЛ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psula len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ПИТЕ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pithelium len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ЧИВНА ВЛАК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Fibrae len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sastav sociva.jpg"/>
          <p:cNvPicPr/>
          <p:nvPr/>
        </p:nvPicPr>
        <p:blipFill>
          <a:blip r:embed="rId1"/>
          <a:stretch/>
        </p:blipFill>
        <p:spPr>
          <a:xfrm>
            <a:off x="419112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Облици конгениталне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Зонулар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: Нуклеарне, ламеларне, капсуларне, сутурал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олар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: предња(перзистентна пупиларна мембрана), задња(перзистентни хијалоидни остац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алактоземија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достатак галактозо-1-фосфат уридил трансферазе; Застој у развоју, повраћање, дијареа; Избацивање из исхране галактозе (млеко); Катаракта:централна у виду капи уљ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ефицит галактокина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овеов синдром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емећај метаболизма аминокиселина, дечаци, Катаракт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о сочиво-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icrophaki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аунов синдр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Content Placeholder 3" descr="congenita.jpg"/>
          <p:cNvPicPr/>
          <p:nvPr/>
        </p:nvPicPr>
        <p:blipFill>
          <a:blip r:embed="rId1"/>
          <a:stretch/>
        </p:blipFill>
        <p:spPr>
          <a:xfrm>
            <a:off x="762120" y="1143000"/>
            <a:ext cx="2495520" cy="174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ongenita 1.jpg"/>
          <p:cNvPicPr/>
          <p:nvPr/>
        </p:nvPicPr>
        <p:blipFill>
          <a:blip r:embed="rId2"/>
          <a:stretch/>
        </p:blipFill>
        <p:spPr>
          <a:xfrm>
            <a:off x="4800600" y="137160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ngenita 2.jpg"/>
          <p:cNvPicPr/>
          <p:nvPr/>
        </p:nvPicPr>
        <p:blipFill>
          <a:blip r:embed="rId3"/>
          <a:stretch/>
        </p:blipFill>
        <p:spPr>
          <a:xfrm>
            <a:off x="2743200" y="36576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омалије облик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њи лентиконус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Lenticonus anteri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и лентикону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Lenticonus posteri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м сочи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Coloboma len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нтиглобу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(Lentiglob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крофак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Microphak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кросферофак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Microspherophak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Content Placeholder 3" descr="lenticonus ant.jpg"/>
          <p:cNvPicPr/>
          <p:nvPr/>
        </p:nvPicPr>
        <p:blipFill>
          <a:blip r:embed="rId1"/>
          <a:stretch/>
        </p:blipFill>
        <p:spPr>
          <a:xfrm>
            <a:off x="990720" y="304920"/>
            <a:ext cx="3095640" cy="2340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lenticonus post.jpg"/>
          <p:cNvPicPr/>
          <p:nvPr/>
        </p:nvPicPr>
        <p:blipFill>
          <a:blip r:embed="rId2"/>
          <a:stretch/>
        </p:blipFill>
        <p:spPr>
          <a:xfrm>
            <a:off x="4876920" y="380880"/>
            <a:ext cx="3125520" cy="234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oloboma.jpg"/>
          <p:cNvPicPr/>
          <p:nvPr/>
        </p:nvPicPr>
        <p:blipFill>
          <a:blip r:embed="rId3"/>
          <a:stretch/>
        </p:blipFill>
        <p:spPr>
          <a:xfrm>
            <a:off x="0" y="2819520"/>
            <a:ext cx="4764240" cy="1800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lentiglobus.jpg"/>
          <p:cNvPicPr/>
          <p:nvPr/>
        </p:nvPicPr>
        <p:blipFill>
          <a:blip r:embed="rId4"/>
          <a:stretch/>
        </p:blipFill>
        <p:spPr>
          <a:xfrm>
            <a:off x="4551480" y="2819520"/>
            <a:ext cx="4592520" cy="180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microspherophakia-5-638.jpg"/>
          <p:cNvPicPr/>
          <p:nvPr/>
        </p:nvPicPr>
        <p:blipFill>
          <a:blip r:embed="rId5"/>
          <a:stretch/>
        </p:blipFill>
        <p:spPr>
          <a:xfrm>
            <a:off x="2590920" y="5181480"/>
            <a:ext cx="31986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номалије положај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пуна дислокациј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uxatio lent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имична дислокација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ubluxatio lentis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ђено-Марфанов, Марчезанијев синдром, хомоцистинур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чено- траума, интраокуларни тумори, ПЕХ синд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luxatio cv.jpg"/>
          <p:cNvPicPr/>
          <p:nvPr/>
        </p:nvPicPr>
        <p:blipFill>
          <a:blip r:embed="rId1"/>
          <a:stretch/>
        </p:blipFill>
        <p:spPr>
          <a:xfrm>
            <a:off x="3124080" y="3809880"/>
            <a:ext cx="2808360" cy="23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subluxatio 1.jpg"/>
          <p:cNvPicPr/>
          <p:nvPr/>
        </p:nvPicPr>
        <p:blipFill>
          <a:blip r:embed="rId2"/>
          <a:stretch/>
        </p:blipFill>
        <p:spPr>
          <a:xfrm>
            <a:off x="1447920" y="1371600"/>
            <a:ext cx="2955960" cy="2340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subluxatio.jpg"/>
          <p:cNvPicPr/>
          <p:nvPr/>
        </p:nvPicPr>
        <p:blipFill>
          <a:blip r:embed="rId3"/>
          <a:stretch/>
        </p:blipFill>
        <p:spPr>
          <a:xfrm>
            <a:off x="5334120" y="1371600"/>
            <a:ext cx="283356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рфанов синдром-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абост везивног ткива: висок раст, дуги прсти, високо непце, дилатација аор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топија сочива, аномалије коморног угла, аблација ре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рчезанијев синдр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зак раст, брахидактилија, крути зглоб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топија сочива, глау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моцистинур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фект цистатион синтетазе→ накупљање хомоцистина и метион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топија сочива, глау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апсула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ластична мембрана око соч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овидност и акомод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уп танких укрштених влакана (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fibrae zonulares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које спајају сочиво са цилијарним телом (70)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оплазматски продужеци светлих  ћелија цилијарног подручја рети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ња, средња и предња влакна: припој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5-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м испред  и 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м иза екват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рургија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ракапсуларна екстракција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кстракапсуларна екстракција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коемулзификација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рургија катарак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икац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бољшање видне оштр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цинске (болести изазване катарактом нпр. факолитични глауко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тетске (бела зениц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ukokoria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реоперативна офталмолошка припр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некса ока (дакриоциститис, блефаритис лагофталмус,ентропијум, ектропијум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жњача: дистрофије ендотела→ризик од постоперативне кератопат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њи очни сегмент: плитка СА, псеудоексфолијативни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Sy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(слабост зонул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ишен ИОП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ндус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авестити пацијента о евентуалном обољењу очног д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Анестез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кална топик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тро, пери, пара булбарна,суб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а  анестезија (ретк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алкулација јачине интраокуларног сочи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ератомет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иометрија- А скен ултразву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мпиријске формуле за прорачун јачине И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 скен ултразв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uzv.jpg"/>
          <p:cNvPicPr/>
          <p:nvPr/>
        </p:nvPicPr>
        <p:blipFill>
          <a:blip r:embed="rId1"/>
          <a:stretch/>
        </p:blipFill>
        <p:spPr>
          <a:xfrm>
            <a:off x="5867280" y="43434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ascan.jpg"/>
          <p:cNvPicPr/>
          <p:nvPr/>
        </p:nvPicPr>
        <p:blipFill>
          <a:blip r:embed="rId2"/>
          <a:stretch/>
        </p:blipFill>
        <p:spPr>
          <a:xfrm>
            <a:off x="5943600" y="838080"/>
            <a:ext cx="2990880" cy="1524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Bscan.jpg"/>
          <p:cNvPicPr/>
          <p:nvPr/>
        </p:nvPicPr>
        <p:blipFill>
          <a:blip r:embed="rId3"/>
          <a:stretch/>
        </p:blipFill>
        <p:spPr>
          <a:xfrm>
            <a:off x="1371600" y="4648320"/>
            <a:ext cx="3352680" cy="136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ракспуалрна екстракција катарак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лањање читавог сочива (катаракте) заједно са капсулом крио-мет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екција афакије: наочаре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+10 Dp), CL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л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OL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м које се уграђује у пупиларни предео и ослања хаптицима на дуж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оперативне компликације, аблација ретине, цистоидни едем мак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ракапсуларна екстракција катара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Content Placeholder 3" descr="ICCE.jpg"/>
          <p:cNvPicPr/>
          <p:nvPr/>
        </p:nvPicPr>
        <p:blipFill>
          <a:blip r:embed="rId1"/>
          <a:stretch/>
        </p:blipFill>
        <p:spPr>
          <a:xfrm>
            <a:off x="1533600" y="2154240"/>
            <a:ext cx="6076800" cy="34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Екстракапсуларна екстракција катара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кстракапсуларна екстракција катарак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Широко отвара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з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0-14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арање предње капсуле (капсулорек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спресија нукле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спирација и испирање сочивних м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радња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OL-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цилијарни сулкус  или капсуларну врећиц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не: велики оперативни рез, ушива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Ектракапсуларна екстракција катарак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3" descr="ecce.jpg"/>
          <p:cNvPicPr/>
          <p:nvPr/>
        </p:nvPicPr>
        <p:blipFill>
          <a:blip r:embed="rId1"/>
          <a:stretch/>
        </p:blipFill>
        <p:spPr>
          <a:xfrm>
            <a:off x="2433600" y="1814400"/>
            <a:ext cx="427680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акоемулзифика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арање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CA: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озатварајућа инциз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Убризгавање вискоеластика у 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инуирана кружна капсулорек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дродисекција и Хидроделаминација: мобилизација нуклеуса и одвајање кортек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рацентеза за инструменте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ротацију сочи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о сонда (шупља сонда од титанијума спојена са сондом у којој се налази пиезо електрични кристал) вибрира и врши факоемулзификацију сочивног материјала који се истовремено аспири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витљиви 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OL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сочивну капсул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 потребе за ушивањем ране рожњач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пител соч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” ћелије:  један слој цилиндрично-кубоидних  ћ. испод предње капсуле →митотски неактив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Е” ћелије: у пределу екватора-герминативна зона интензивна митотичка активност,  ћелије се деле, издужују, губе једра стварајући сочивна влакана која се таложе у виду слоје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д задње капсуле нема епителних ћел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Content Placeholder 3" descr="phaco.jpg"/>
          <p:cNvPicPr/>
          <p:nvPr/>
        </p:nvPicPr>
        <p:blipFill>
          <a:blip r:embed="rId1"/>
          <a:stretch/>
        </p:blipFill>
        <p:spPr>
          <a:xfrm>
            <a:off x="1523880" y="533520"/>
            <a:ext cx="55818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Интраопераивн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птура задње капсуле, дислокација фрагмената нуклеуса у витреус, субхороидалне хемора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остоперативн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утни септични ендофталмитис, Хронични асептични ендофталмитис “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s toxic S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СТАКЛАСТО ТЕ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embrana hyaloidea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јачи припој у пределу о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a serrate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за стакластог тела) и по ободу папиле видног живца (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area Martegian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99%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да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(humor vitreu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режа колагену сличних влакана са доста хијалуронске киселине и мало ћелија хијалоцита (улога макрофаг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ферни кортекс и централни део витреу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Content Placeholder 3" descr="CV anatomy.jpg"/>
          <p:cNvPicPr/>
          <p:nvPr/>
        </p:nvPicPr>
        <p:blipFill>
          <a:blip r:embed="rId1"/>
          <a:stretch/>
        </p:blipFill>
        <p:spPr>
          <a:xfrm>
            <a:off x="2286000" y="1981080"/>
            <a:ext cx="415620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лог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Физиолошк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тичка (рефракција 1,334), потпорна, фагоцитоза, исхрана, термо и електроизол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атофизиолошка: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ектор патолошких производа (крв, фибрин), потпорно ткиво за раст нових крвних судо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ff0000"/>
                </a:solidFill>
                <a:latin typeface="Calibri"/>
              </a:rPr>
              <a:t>Преглед: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ветљавање офталмоскоп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Биомикроскоп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Ултра-зву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имптоми болести стакластог те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ацитати (покретна замућења) у виду конаца, тачкица у видном пољ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лаци у видном пољу 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hotopsi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кција стакластог тела на рет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имично или потпуно затамњење видног поља (масивна крваре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блација стаклстог 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ије особе, чешће же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генеративне промене у колагеној структури →колапс колагене структуре са накупљањем воде у насталом простору и одваја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V-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у пределу папиле видног 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гла појава опацитата; биомикроскопски се уочава бели (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Weiss-ov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стен испред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цена периферије фундуса: рупту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Content Placeholder 3" descr="220px-Crtez_ablacije_vitrealne_membrane_jpg.jpg"/>
          <p:cNvPicPr/>
          <p:nvPr/>
        </p:nvPicPr>
        <p:blipFill>
          <a:blip r:embed="rId1"/>
          <a:stretch/>
        </p:blipFill>
        <p:spPr>
          <a:xfrm>
            <a:off x="1143000" y="1600200"/>
            <a:ext cx="2095560" cy="399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ruptura.png"/>
          <p:cNvPicPr/>
          <p:nvPr/>
        </p:nvPicPr>
        <p:blipFill>
          <a:blip r:embed="rId2"/>
          <a:stretch/>
        </p:blipFill>
        <p:spPr>
          <a:xfrm>
            <a:off x="4495680" y="1981080"/>
            <a:ext cx="33591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егенеративне промене код мио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одњавање и спори постепени колапс  колагене структуре→опацит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нзивирање опацитата: сумња на ретиналну рупту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epitel odlicno.jpg"/>
          <p:cNvPicPr/>
          <p:nvPr/>
        </p:nvPicPr>
        <p:blipFill>
          <a:blip r:embed="rId1"/>
          <a:stretch/>
        </p:blipFill>
        <p:spPr>
          <a:xfrm>
            <a:off x="990720" y="457200"/>
            <a:ext cx="744048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емиологија промена у стакластом тел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- хемофталмус из новоформираних крвних суд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 после настанка руптуре рет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аљенски ексудат код увеити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аљенски ексудат код ендофталмитиса-нема црвеног рефлекса, жућкастог изгледа, интравитреалне инјекције лек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равитреална страна те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Content Placeholder 3" descr="endophthalmitis.jpg"/>
          <p:cNvPicPr/>
          <p:nvPr/>
        </p:nvPicPr>
        <p:blipFill>
          <a:blip r:embed="rId1"/>
          <a:stretch/>
        </p:blipFill>
        <p:spPr>
          <a:xfrm>
            <a:off x="685800" y="3581280"/>
            <a:ext cx="7620120" cy="3038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emoftalmus.jpg"/>
          <p:cNvPicPr/>
          <p:nvPr/>
        </p:nvPicPr>
        <p:blipFill>
          <a:blip r:embed="rId2"/>
          <a:stretch/>
        </p:blipFill>
        <p:spPr>
          <a:xfrm>
            <a:off x="1066680" y="1066680"/>
            <a:ext cx="2314800" cy="1971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hemoftalkmus uzv.jpg"/>
          <p:cNvPicPr/>
          <p:nvPr/>
        </p:nvPicPr>
        <p:blipFill>
          <a:blip r:embed="rId3"/>
          <a:stretch/>
        </p:blipFill>
        <p:spPr>
          <a:xfrm>
            <a:off x="4724280" y="990720"/>
            <a:ext cx="3133800" cy="23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вала 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очивна влак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не масу сочива тј. НУКЛЕУС и КОРТЕКС→ не постоји јасна граница између ове две структу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туре: линије дуж којих се завршавају и почињу сочивна влакна→напред у  облику усправног а позади обрнутог слов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клеус: ЕМБРИОНАЛНИ, ФЕТАЛНИ, ИНФАНТИЛНИ, АДУЛТНИ (образује се после 25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in7</dc:creator>
  <dc:description/>
  <dc:language>en-US</dc:language>
  <cp:lastModifiedBy>Windows User</cp:lastModifiedBy>
  <dcterms:modified xsi:type="dcterms:W3CDTF">2020-09-26T16:28:51Z</dcterms:modified>
  <cp:revision>12</cp:revision>
  <dc:subject/>
  <dc:title>СОЧИВО И СТАКЛАСТО ТЕЛO АНАТОМИЈА,   ХИСТОЛОГИЈА, ФИЗИОЛОГИЈА И ПАТОЛОГИЈА.           ФУНКЦИОНАЛНА ДИЈАГНОСТИКА,    САВРЕМЕНИ ТЕРАПИЈСКИ МОДУЛИ</dc:title>
</cp:coreProperties>
</file>