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9D4D6-BF9E-48CC-AF82-55F17D1EC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3C77-9C7A-459D-995F-ED86A6C9E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87E6A-AEC0-4D7C-886E-CD4F2A2EB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50796-A8FF-44A6-A0FC-E3FE107C8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E804A-6E8A-4CE2-A546-3C90E305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939F4-6394-4E3E-AF28-ACB7C1B7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F2C1-5E4B-4CA3-8F63-44415C53B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143B-337A-4C5F-A503-BF03E140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BC320-93E3-4D0C-BCA5-E10BFFB5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588A-8436-4856-83C9-45AA462C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06808-BF20-48FC-BFBF-BC439EB05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56A8-9BBD-4849-AC60-4BE4056DD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98DB-D30A-499E-A6B1-59652349F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000000"/>
                </a:solidFill>
                <a:latin typeface="Calibri"/>
              </a:rPr>
              <a:t>Приказ клиничких случајева</a:t>
            </a:r>
            <a:br>
              <a:rPr sz="4400"/>
            </a:br>
            <a:r>
              <a:rPr b="1" lang="sr-RS" sz="4400" spc="-1" strike="noStrike">
                <a:solidFill>
                  <a:srgbClr val="000000"/>
                </a:solidFill>
                <a:latin typeface="Calibri"/>
              </a:rPr>
              <a:t>Тематска јединица: сочиво</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Татјана Шаренац Вуловић</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Катедра за офталмологију</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ФМН Крагујевац</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2. случај</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Пацијенткиња стара 83 године се жали на болове и црвенило левог ока од пре неколико дан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Садашња болест: од пре 3-4 дана је осетила болове у левом оку, који су се појачавали у наредним данима. Тада је око и поцрвенело</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Лична анамнеза: срчани болесник</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Негира алергију на храну и леков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Офталмолошка анамнез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Пацијенткиња наводи да левим оком не види већ дуже време; да је бола код офталмолога пре годину дана и да јој је офталмолог рекао да има скраму на том оку. Лево око је оперисала због скраме пре 5 година.</a:t>
            </a:r>
            <a:endParaRPr b="0" lang="en-US" sz="3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Офталмолошки преглед</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VOD:</a:t>
            </a:r>
            <a:r>
              <a:rPr b="0" lang="sr-RS" sz="1800" spc="-1" strike="noStrike">
                <a:solidFill>
                  <a:srgbClr val="000000"/>
                </a:solidFill>
                <a:latin typeface="Calibri"/>
              </a:rPr>
              <a:t> са корекцијом 1.0</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S: </a:t>
            </a:r>
            <a:r>
              <a:rPr b="0" lang="sr-Latn-RS" sz="1800" spc="-1" strike="noStrike">
                <a:solidFill>
                  <a:srgbClr val="000000"/>
                </a:solidFill>
                <a:latin typeface="Calibri"/>
              </a:rPr>
              <a:t>L</a:t>
            </a:r>
            <a:r>
              <a:rPr b="0" lang="en-US" sz="1800" spc="-1" strike="noStrike">
                <a:solidFill>
                  <a:srgbClr val="000000"/>
                </a:solidFill>
                <a:latin typeface="Calibri"/>
              </a:rPr>
              <a:t>+P+</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D: </a:t>
            </a:r>
            <a:r>
              <a:rPr b="0" lang="sr-RS" sz="1800" spc="-1" strike="noStrike">
                <a:solidFill>
                  <a:srgbClr val="000000"/>
                </a:solidFill>
                <a:latin typeface="Calibri"/>
              </a:rPr>
              <a:t>17</a:t>
            </a:r>
            <a:r>
              <a:rPr b="0" lang="en-US" sz="1800" spc="-1" strike="noStrike">
                <a:solidFill>
                  <a:srgbClr val="000000"/>
                </a:solidFill>
                <a:latin typeface="Calibri"/>
              </a:rPr>
              <a:t>mmH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S:</a:t>
            </a:r>
            <a:r>
              <a:rPr b="0" lang="sr-RS" sz="1800" spc="-1" strike="noStrike">
                <a:solidFill>
                  <a:srgbClr val="000000"/>
                </a:solidFill>
                <a:latin typeface="Calibri"/>
              </a:rPr>
              <a:t> 58</a:t>
            </a:r>
            <a:r>
              <a:rPr b="0" lang="en-US" sz="1800" spc="-1" strike="noStrike">
                <a:solidFill>
                  <a:srgbClr val="000000"/>
                </a:solidFill>
                <a:latin typeface="Calibri"/>
              </a:rPr>
              <a:t>mmH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D:</a:t>
            </a:r>
            <a:r>
              <a:rPr b="0" lang="sr-RS" sz="1800" spc="-1" strike="noStrike">
                <a:solidFill>
                  <a:srgbClr val="000000"/>
                </a:solidFill>
                <a:latin typeface="Calibri"/>
              </a:rPr>
              <a:t> око мирно, нубекулозно замућење рожњаче на 12 сати уз лимбус рожњаче, нормална дубина предње очне коморе, бистрог садржаја, зенични предео је црн са присутним црвеним рефлексом, сочиво је опертивно одстрањено са уграђеним вештачким сочивом.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S:</a:t>
            </a:r>
            <a:r>
              <a:rPr b="0" lang="sr-RS" sz="1800" spc="-1" strike="noStrike">
                <a:solidFill>
                  <a:srgbClr val="000000"/>
                </a:solidFill>
                <a:latin typeface="Calibri"/>
              </a:rPr>
              <a:t> Блефароспазам, фотофобија, епифора, цилијарна хиперемија, едем епитела рожњаче, дубока предња очна комора са присутном ексудацијом, зеница нешто шира, тромо реагује на светлост и акомодацију, зенични простор је беличасто-браонкаст, без црвеног рефлекса, сочиво у потпуности замућено са полумесечастим беличастим одсјајем у доњем делу сочи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a:t>
            </a:r>
            <a:r>
              <a:rPr b="0" lang="sr-RS" sz="1800" spc="-1" strike="noStrike">
                <a:solidFill>
                  <a:srgbClr val="000000"/>
                </a:solidFill>
                <a:latin typeface="Calibri"/>
              </a:rPr>
              <a:t> ПНО-јасно ограничена, у равни ретине, румена. Артеријенешто уже, вене пуније. Појачан рефлекс укрштања крвних судова. У макули редукован физиолошки рефлекс. Периферија ретине-б.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S:</a:t>
            </a:r>
            <a:r>
              <a:rPr b="0" lang="sr-RS" sz="1800" spc="-1" strike="noStrike">
                <a:solidFill>
                  <a:srgbClr val="000000"/>
                </a:solidFill>
                <a:latin typeface="Calibri"/>
              </a:rPr>
              <a:t> не види с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6" name="Picture 2" descr="F:\socivo\fakoliz 2.jpg"/>
          <p:cNvPicPr/>
          <p:nvPr/>
        </p:nvPicPr>
        <p:blipFill>
          <a:blip r:embed="rId1"/>
          <a:stretch/>
        </p:blipFill>
        <p:spPr>
          <a:xfrm>
            <a:off x="0" y="0"/>
            <a:ext cx="5560920" cy="3780000"/>
          </a:xfrm>
          <a:prstGeom prst="rect">
            <a:avLst/>
          </a:prstGeom>
          <a:ln w="0">
            <a:noFill/>
          </a:ln>
        </p:spPr>
      </p:pic>
      <p:pic>
        <p:nvPicPr>
          <p:cNvPr id="67" name="Picture 4" descr="F:\socivo\fakoliz 6.jpg"/>
          <p:cNvPicPr/>
          <p:nvPr/>
        </p:nvPicPr>
        <p:blipFill>
          <a:blip r:embed="rId2"/>
          <a:stretch/>
        </p:blipFill>
        <p:spPr>
          <a:xfrm>
            <a:off x="4103640" y="3078000"/>
            <a:ext cx="5040360" cy="3780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9" name="Picture 2" descr="F:\socivo\fakoliz 3.png"/>
          <p:cNvPicPr/>
          <p:nvPr/>
        </p:nvPicPr>
        <p:blipFill>
          <a:blip r:embed="rId1"/>
          <a:stretch/>
        </p:blipFill>
        <p:spPr>
          <a:xfrm>
            <a:off x="1143000" y="2209680"/>
            <a:ext cx="6361200" cy="2340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1" name="Picture 2" descr="F:\socivo\fakoliz 5.jpg"/>
          <p:cNvPicPr/>
          <p:nvPr/>
        </p:nvPicPr>
        <p:blipFill>
          <a:blip r:embed="rId1"/>
          <a:stretch/>
        </p:blipFill>
        <p:spPr>
          <a:xfrm>
            <a:off x="1554120" y="1600200"/>
            <a:ext cx="6035760" cy="4525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 name="Picture 2" descr="F:\socivo\fakoliz 4.jpg"/>
          <p:cNvPicPr/>
          <p:nvPr/>
        </p:nvPicPr>
        <p:blipFill>
          <a:blip r:embed="rId1"/>
          <a:stretch/>
        </p:blipFill>
        <p:spPr>
          <a:xfrm>
            <a:off x="914400" y="533520"/>
            <a:ext cx="7432560" cy="5580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alibri"/>
              </a:rPr>
              <a:t>Факоемулзификација презреле скраме</a:t>
            </a:r>
            <a:endParaRPr b="0" lang="en-US" sz="4000" spc="-1" strike="noStrike">
              <a:solidFill>
                <a:srgbClr val="000000"/>
              </a:solidFill>
              <a:latin typeface="Calibri"/>
            </a:endParaRPr>
          </a:p>
        </p:txBody>
      </p:sp>
      <p:pic>
        <p:nvPicPr>
          <p:cNvPr id="75" name="Picture 2" descr="F:\socivo\fakoliz.jpg"/>
          <p:cNvPicPr/>
          <p:nvPr/>
        </p:nvPicPr>
        <p:blipFill>
          <a:blip r:embed="rId1"/>
          <a:stretch/>
        </p:blipFill>
        <p:spPr>
          <a:xfrm>
            <a:off x="549360" y="1600200"/>
            <a:ext cx="804528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1. случај</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Пацијент стар 73. године се жали на потпуни губитак вида на десном оку, који је праћен болом и црвенилом истог.</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Calibri"/>
              </a:rPr>
              <a:t>Садашња болест: пацијент наводи да је приметио у последњих годину дана постепени пад вида на оба ока, више на десном. Потпуни губитак вида на десном оку је приметио пре око 15 дана. Од претходног дана десно око га је јако заболело</a:t>
            </a:r>
            <a:endParaRPr b="0" lang="en-US" sz="3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Лична анамнеза: има хипертнезију, али користи прописану терапиј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Негира алергију на храну и леков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Офталмолошка анамнеза: Пацијент наводи да је ишао на редовне контроле код офталмолога. Последњи пут је био 8 месеци раније, када му је дијагностикована скрама на оба ока, више на десном.</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alibri"/>
              </a:rPr>
              <a:t>Офталмолошки преглед</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VOD: L</a:t>
            </a:r>
            <a:r>
              <a:rPr b="0" lang="en-US" sz="2000" spc="-1" strike="noStrike">
                <a:solidFill>
                  <a:srgbClr val="000000"/>
                </a:solidFill>
                <a:latin typeface="Calibri"/>
              </a:rPr>
              <a:t>+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S: 0.4</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D: 54mmH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S: 16mmH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OD:</a:t>
            </a:r>
            <a:r>
              <a:rPr b="0" lang="sr-RS" sz="2000" spc="-1" strike="noStrike">
                <a:solidFill>
                  <a:srgbClr val="000000"/>
                </a:solidFill>
                <a:latin typeface="Calibri"/>
              </a:rPr>
              <a:t>Блефароспазам, фотофобија, епифора, цилијарна хиперемија, едем епитела рожњаче, плитка предња очна комора, зеница нешто шира, тромо реагује на светлост и акомодацију, зенични простор је бео, без црвеног рефлекса, сочиво у потпуности замућено са седефастим одсјаје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LOS:</a:t>
            </a:r>
            <a:r>
              <a:rPr b="0" lang="sr-RS" sz="2000" spc="-1" strike="noStrike">
                <a:solidFill>
                  <a:srgbClr val="000000"/>
                </a:solidFill>
                <a:latin typeface="Calibri"/>
              </a:rPr>
              <a:t> око мирно, зенични простор је црн уз ослабљен црвени рефлекс, почетно нуклеарно и задње субкпаусларно замућење сочив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D:</a:t>
            </a:r>
            <a:r>
              <a:rPr b="0" lang="sr-RS" sz="2000" spc="-1" strike="noStrike">
                <a:solidFill>
                  <a:srgbClr val="000000"/>
                </a:solidFill>
                <a:latin typeface="Calibri"/>
              </a:rPr>
              <a:t> не види се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S:</a:t>
            </a:r>
            <a:r>
              <a:rPr b="0" lang="sr-RS" sz="2000" spc="-1" strike="noStrike">
                <a:solidFill>
                  <a:srgbClr val="000000"/>
                </a:solidFill>
                <a:latin typeface="Calibri"/>
              </a:rPr>
              <a:t> ПНО-јасно ограничена, у равни ретине, румена. Артеријенешто уже, вене пуније. Појачан рефлекс укрштања крвних судова. У макули редукован физиолошки рефлекс. Периферија ретине-б.о.</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D:</a:t>
            </a:r>
            <a:r>
              <a:rPr b="0" lang="sr-RS" sz="3200" spc="-1" strike="noStrike">
                <a:solidFill>
                  <a:srgbClr val="000000"/>
                </a:solidFill>
                <a:latin typeface="Calibri"/>
              </a:rPr>
              <a:t>Блефароспазам, фотофобија, епифора, цилијарна хиперемија, едем епитела рожњаче, плитка предња очна комора, зеница нешто шира, тромо реагује на светлост и акомодацију, зенични простор је бео, без црвеног рефлекса, сочиво у потпуности замућено са седефастим одсјаје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2" name="Picture 2" descr="F:\socivo\b-+Phacomorphic+(Intumescent)+glaucoma.jpg"/>
          <p:cNvPicPr/>
          <p:nvPr/>
        </p:nvPicPr>
        <p:blipFill>
          <a:blip r:embed="rId1"/>
          <a:stretch/>
        </p:blipFill>
        <p:spPr>
          <a:xfrm>
            <a:off x="1554120" y="1600200"/>
            <a:ext cx="6035760" cy="452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Picture 2" descr="F:\socivo\fakomeh.jpg"/>
          <p:cNvPicPr/>
          <p:nvPr/>
        </p:nvPicPr>
        <p:blipFill>
          <a:blip r:embed="rId1"/>
          <a:stretch/>
        </p:blipFill>
        <p:spPr>
          <a:xfrm>
            <a:off x="1533600" y="1833480"/>
            <a:ext cx="6076800" cy="405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 name="Picture 2" descr="F:\socivo\978-0-387-09408-3_20_Fig3_HTML.gif"/>
          <p:cNvPicPr/>
          <p:nvPr/>
        </p:nvPicPr>
        <p:blipFill>
          <a:blip r:embed="rId1"/>
          <a:stretch/>
        </p:blipFill>
        <p:spPr>
          <a:xfrm>
            <a:off x="1295280" y="1676520"/>
            <a:ext cx="6261120" cy="352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8" name="Picture 2" descr="F:\socivo\fakomeh 1.jpg"/>
          <p:cNvPicPr/>
          <p:nvPr/>
        </p:nvPicPr>
        <p:blipFill>
          <a:blip r:embed="rId1"/>
          <a:stretch/>
        </p:blipFill>
        <p:spPr>
          <a:xfrm>
            <a:off x="1557360" y="1600200"/>
            <a:ext cx="6029280" cy="452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Win7</dc:creator>
  <dc:description/>
  <dc:language>en-US</dc:language>
  <cp:lastModifiedBy>Windows User</cp:lastModifiedBy>
  <dcterms:modified xsi:type="dcterms:W3CDTF">2020-09-26T16:51:54Z</dcterms:modified>
  <cp:revision>6</cp:revision>
  <dc:subject/>
  <dc:title>Приказ клничких случајева Тематска јединица: сочиво</dc:title>
</cp:coreProperties>
</file>